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D08C-0129-425E-986F-93F7FE02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F67-DE24-46CD-8F23-F2ABD2D3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A4F-E61A-4852-AAEE-52DADF1A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E00-2647-4451-B497-8A354F4A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CEA-D048-4D53-970D-92B29D86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8AD-ED0C-4E19-9787-563FAD1C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F96-0B73-42A0-A3C8-1FEAC83E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409-2F5B-441C-ADA6-77B937E9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877-875B-49E2-BBFE-5E854A55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847-C683-4FDA-806B-EB6759C0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0FA-B9C3-47F2-9544-8CDDBE5A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F6E-707F-461D-8001-14CB47EE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882F-053E-46EA-BE2C-C88725E39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6320" y="2195640"/>
          <a:ext cx="128880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195640"/>
                    <a:ext cx="128880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416560" y="2195640"/>
          <a:ext cx="1289160" cy="23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6560" y="2195640"/>
                    <a:ext cx="128916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5416560" y="6781680"/>
          <a:ext cx="1289160" cy="230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6560" y="6781680"/>
                    <a:ext cx="128916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76320" y="6767640"/>
          <a:ext cx="1288800" cy="2300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320" y="6767640"/>
                    <a:ext cx="128880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0" y="0"/>
          <a:ext cx="3505320" cy="2068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350532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429000" y="0"/>
          <a:ext cx="3429000" cy="2133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0"/>
                    <a:ext cx="3429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0" y="4648320"/>
          <a:ext cx="3505320" cy="2068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4648320"/>
                    <a:ext cx="350532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429000" y="4648320"/>
          <a:ext cx="3429000" cy="2133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9000" y="4648320"/>
                    <a:ext cx="34290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079960" y="6858000"/>
          <a:ext cx="139716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960" y="6858000"/>
                    <a:ext cx="139716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04920" y="6781680"/>
          <a:ext cx="1396800" cy="22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6781680"/>
                    <a:ext cx="1396800" cy="22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156280" y="2286000"/>
          <a:ext cx="1396800" cy="22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56280" y="2286000"/>
                    <a:ext cx="139680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28600" y="2227320"/>
          <a:ext cx="1397160" cy="226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2227320"/>
                    <a:ext cx="139716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0"/>
          <a:ext cx="3505320" cy="2068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350532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429000" y="0"/>
          <a:ext cx="3429000" cy="2133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0"/>
                    <a:ext cx="3429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0" y="4648320"/>
          <a:ext cx="3505320" cy="2068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4648320"/>
                    <a:ext cx="350532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429000" y="4648320"/>
          <a:ext cx="3429000" cy="2133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9000" y="4648320"/>
                    <a:ext cx="34290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7:46:24Z</dcterms:created>
  <dc:creator>Dina Winterton</dc:creator>
  <dc:description/>
  <dc:language>en-US</dc:language>
  <cp:lastModifiedBy>Dina Winterton</cp:lastModifiedBy>
  <dcterms:modified xsi:type="dcterms:W3CDTF">2009-04-13T18:17:41Z</dcterms:modified>
  <cp:revision>5</cp:revision>
  <dc:subject/>
  <dc:title>Slide 1</dc:title>
</cp:coreProperties>
</file>